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557-9B5A-483F-8286-6591B03400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6F2-DE4D-4D55-BCEC-A5190D4004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091-BAF3-484B-957B-494F39B649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D16-8054-4276-BC39-158AC1CB5C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C83-4F5A-4D88-905E-4232847042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A83-DCD8-493E-9C40-BF045CF96F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D27-3E89-48C2-A6B6-BC7EB0D93D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D8EF-6820-4D58-A4B5-139E119753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961-738F-483F-B4CD-C26592A9A0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572-0D04-4600-B570-DDB2C92A93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E6F-2C4D-41FB-9658-91D5096F48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A79-BF82-4447-A852-AB7881C95E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CD9-7422-4FCF-B3F0-81F9A0DBC5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376B-DD0D-4CB2-8B24-5209F10AEF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39C-F8EE-4036-913C-95F830A905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9D6-A766-41B6-81E6-0B394C5C395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2C8-4237-4BD6-AD43-D6FB61FD4F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731-4E37-4989-9B3A-99F8CFF2E8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62A3-1EF9-4C67-8CBE-EA215407E9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AF5E-79BE-4A20-9579-5F470FCF19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27D-3CCB-4015-80D8-BFD6BA9744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BA5-C0E9-4B5F-A061-5D10188F33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8E72-1628-4951-B847-1E424CA3E8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1A76-DDFA-4ED8-826A-8C5B480F2F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A06-6DC2-4DE4-BC5D-2687C4855D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F92-80D7-4119-A5A6-67E8C5596C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69A-7959-425E-B204-08BD077A7F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FFB4-18FF-4DB7-A201-39172F96F6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45B-CDC1-45E4-889F-E340FB322A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B3A-BB1B-40F7-9F1E-BCEC9D77FC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342-E2FF-495E-865A-F6E30BC659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42D-CE76-43B9-9817-58A1F6A4FA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5884-BC8F-4D22-9225-067CDD13E3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D470-F51F-4A1C-BB81-E9EFFEA96B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86F9-E172-4F65-9E40-027430BCE1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785-7891-480B-B67A-9A2F02A3E6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CA1-8C29-46F6-8C3C-29B8646533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EC7-1F83-4CEF-9F94-6A5B742136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32D-38BD-4CD0-871A-53ADE5B487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E30D-5C56-4151-A71A-BC227E2518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92BC-102A-4A19-A45D-27B2DAFCD1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F3E8-F9B8-47C3-8891-1C480B6AE0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8390-2BF8-46B8-9BED-DDA2FF4B17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11C3-273A-486E-8E19-75821EAFF8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A178-5555-4CA8-B6F9-7DE3B1900B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5CB-3A80-448E-9E1C-BBB12AB29C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B671-75B1-4EC8-A85A-C26F799864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F17-9353-4794-BC29-7E45A5CB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3B3-470B-4A89-91BA-9C0DE7B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F9A-237E-46A4-BA1D-5E62BB15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C06-0040-484F-A3F0-ADA8CE35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931-856C-4F1B-A7DE-C2C2DDA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564-57F6-416F-9DDB-4795A1F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4B1-5FB8-4FF6-A994-0246A89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BC9-B2C1-40A4-9FE1-3186B29A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C81-7502-4A2B-95C3-DEE4043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EDC-35A2-4B9C-9D1E-1E7A85C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09E-90F0-4739-B18B-372AA51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644-E925-4C47-B875-F7F6D7A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A15-D27E-465C-80C7-808AF5C13A0C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어째서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ūn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夏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秋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ūtiā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冬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ōngtiān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겨울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nuǎnhu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따뜻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덥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liángkuai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大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i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舒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f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머리가 아프다</a:t>
            </a:r>
            <a:endParaRPr b="0" lang="en-US" sz="7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gǎnmà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기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걸리다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发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sh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열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lìha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심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많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水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shuǐguǒ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과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해야 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打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ē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주사를 맞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 것이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말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哪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l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천만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겸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ǒy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그래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xí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되다</a:t>
            </a:r>
            <a:r>
              <a:rPr b="0" lang="en-US" sz="8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괜찮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作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y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숙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ídì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ě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tó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머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疼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肚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ù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ǎ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적게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é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 수 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nǎo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컴퓨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蔬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채소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看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kànbìng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59920" y="488124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을 받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진찰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眼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ǎnji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鼻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íz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입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耳朵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ěrdu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最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ìjì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최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q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ěng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날씨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注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y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의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身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t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건강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8:49:04Z</dcterms:created>
  <dc:creator>System</dc:creator>
  <dc:description/>
  <dc:language>en-US</dc:language>
  <cp:lastModifiedBy>System</cp:lastModifiedBy>
  <dcterms:modified xsi:type="dcterms:W3CDTF">2014-01-27T01:21:06Z</dcterms:modified>
  <cp:revision>10</cp:revision>
  <dc:subject/>
  <dc:title>슬라이드 1</dc:title>
</cp:coreProperties>
</file>